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8CE-F063-42B4-AA54-7FB1C0AF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B9D-0E05-4200-BE36-CBB2A3F7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455-BF6D-4BE3-B5CA-1BACE3E1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2CD-1A5B-4845-AD8E-E7782FD1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0D5-8272-498F-AA7E-7396FFC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389-D9C3-499A-A145-BCEB6639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CA4-0311-4AF9-A44F-33B74D6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D3D-520E-452B-8FC5-0A46BA6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EFC-2439-4C9B-947C-03D7B67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A50-BE43-4159-8605-379198B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A4A-C49F-46E0-AC40-DE3FCE4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9D8-FC30-4EA1-A2E1-FD53771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782-0E97-4245-9B8A-8551F992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bc.regione.emilia-romagna.it/h3/h3.exe/amuseier" TargetMode="External"/><Relationship Id="rId2" Type="http://schemas.openxmlformats.org/officeDocument/2006/relationships/hyperlink" Target="http://www.ibc.regione.emilia-romagna.it/h3/h3.exe/amuseier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omune.bologna.it/museoarcheologico/collezio/romana/bronz.htm" TargetMode="External"/><Relationship Id="rId2" Type="http://schemas.openxmlformats.org/officeDocument/2006/relationships/hyperlink" Target="http://www.comune.bologna.it/museoarcheologico/collezio/romana/rom1058.htm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o.sebina.it/SebinaOpacIMAGO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Regioni ed Enti Locali nell’organizzazione delle informazioni e i dati per Mich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84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va Florence 2007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renze 29.03.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incenzo Bazzocchi    IBACN - Regione E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436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Digitalizzare oggetti …catalog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 oggetti da digitalizzare devono essere catalogati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(Linee guida tecniche per i programmi di creazione dei contenuti culturali digitali. §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catalogazione consente di stabilire un legame con la collezione e il catalogo esist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i fini della conservazione dell’orig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la fruizione sia dell’originale sia della risorsa digitale prodo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Garamond"/>
              </a:rPr>
              <a:t>Digitalizzare … con normative di riferi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di digitalizzazione attuati da I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ormativa per acquisizione digitale delle immagini fotograf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ICCD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ee di indirizzo per i progetti di digitalizzazione del mater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otograf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ICCU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ologie unificate per rendere in forma digitale la documentazione fotografica allegata alla scheda e consentire una visualizzazione adeguata e una identificazione corretta del b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link multimediali … negli op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Cooperazione</a:t>
            </a:r>
            <a:r>
              <a:rPr b="1" lang="it-IT" sz="2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Iniziative di digitalizzazione condivise a livello di 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53.582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link multimediali presenti nei 7 poli SBN in E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Fondi fotografici sulla storia sociale e artistica dell’Emilia-Romagna appartenenti a collezioni conservate presso biblioteche Classense, Malatestiana, Comunale di Savignano, Gambalunga (</a:t>
            </a:r>
            <a:r>
              <a:rPr b="0" i="1" lang="it-IT" sz="1600" spc="-1" strike="noStrike">
                <a:solidFill>
                  <a:srgbClr val="000000"/>
                </a:solidFill>
                <a:latin typeface="Garamond"/>
              </a:rPr>
              <a:t>tra cui </a:t>
            </a:r>
            <a:r>
              <a:rPr b="0" i="1" lang="it-IT" sz="1600" spc="-1" strike="noStrike">
                <a:solidFill>
                  <a:srgbClr val="333399"/>
                </a:solidFill>
                <a:latin typeface="Garamond"/>
              </a:rPr>
              <a:t>653 foto di scena del film Amarcord di Felli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Raccolta di cartoline della città di Cervia conservate presso la biblioteca comu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Collezione di foto di attori tra ‘800 e ‘900 contenuta nel fondo Antonio Cervi conservata presso la biblioteca dell’Archiginna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Collezione di disegni di moda di stilisti (Schuberth, Dior, Givenchy, Ferrè, Nina Ricci) e disegni di architettura (Giò Ponti, Pier Luigi Nervi, Aldo Rossi) conservata presso CSAC di P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Incisioni di scenografie di spettacoli farnesiani del Seicento conservate presso la biblioteca Palatina di P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Musei E-R: sistema inform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97360"/>
            <a:ext cx="792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08760" y="4702320"/>
            <a:ext cx="792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8200" y="5891040"/>
            <a:ext cx="79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587700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56080" y="2565360"/>
            <a:ext cx="2160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773360"/>
            <a:ext cx="2519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o be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i Regione E-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450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42512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64328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7280" y="198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4076640"/>
            <a:ext cx="21988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lia-Romag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4292640"/>
            <a:ext cx="1008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96360" y="443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55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sotto la responsabilit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50028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creato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501336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disponibile attra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328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54440" y="3068280"/>
            <a:ext cx="1141200" cy="11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292720" y="3068640"/>
            <a:ext cx="1295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37040" y="4508640"/>
            <a:ext cx="75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50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3789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resenta in tutto o in p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69160" y="5508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trova 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72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4000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9600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ortale Arti Sceni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7924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ortale Arti Sceniche. Sebina Link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995720" cy="39801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79280" y="765000"/>
            <a:ext cx="9144000" cy="4050360"/>
            <a:chOff x="179280" y="765000"/>
            <a:chExt cx="9144000" cy="4050360"/>
          </a:xfrm>
        </p:grpSpPr>
        <p:sp>
          <p:nvSpPr>
            <p:cNvPr id="128" name=""/>
            <p:cNvSpPr/>
            <p:nvPr/>
          </p:nvSpPr>
          <p:spPr>
            <a:xfrm>
              <a:off x="179280" y="3660840"/>
              <a:ext cx="5715000" cy="30456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94280" y="3813120"/>
              <a:ext cx="3049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580080" y="765000"/>
              <a:ext cx="2743200" cy="4050360"/>
              <a:chOff x="6580080" y="765000"/>
              <a:chExt cx="2743200" cy="4050360"/>
            </a:xfrm>
          </p:grpSpPr>
          <p:sp>
            <p:nvSpPr>
              <p:cNvPr id="131" name=""/>
              <p:cNvSpPr/>
              <p:nvPr/>
            </p:nvSpPr>
            <p:spPr>
              <a:xfrm>
                <a:off x="6580080" y="2289240"/>
                <a:ext cx="2743200" cy="25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ricerca in banche    dati bibliografi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document delive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motori di ricer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ull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cquisto in re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enotazion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estito loc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.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0080" y="2441520"/>
                <a:ext cx="0" cy="23623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18160" y="1755720"/>
                <a:ext cx="1511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97a07"/>
                    </a:solidFill>
                    <a:latin typeface="Myriad Pro Black"/>
                  </a:rPr>
                  <a:t>OpenUR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6961680" y="765000"/>
                <a:ext cx="2259360" cy="744120"/>
                <a:chOff x="6961680" y="765000"/>
                <a:chExt cx="2259360" cy="744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930800" y="1137240"/>
                  <a:ext cx="1117080" cy="247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6961680" y="765000"/>
                  <a:ext cx="2259360" cy="744120"/>
                  <a:chOff x="6961680" y="765000"/>
                  <a:chExt cx="2259360" cy="7441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7496280" y="765000"/>
                    <a:ext cx="1427400" cy="30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185960" y="1261080"/>
                    <a:ext cx="1117080" cy="24804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961680" y="951120"/>
                    <a:ext cx="22593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777777"/>
                        </a:solidFill>
                        <a:latin typeface="Myriad Pro Black"/>
                      </a:rPr>
                      <a:t>Fornitori di serviz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" name=""/>
              <p:cNvSpPr/>
              <p:nvPr/>
            </p:nvSpPr>
            <p:spPr>
              <a:xfrm flipV="1">
                <a:off x="6580080" y="1374480"/>
                <a:ext cx="685800" cy="9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80080" y="1374480"/>
                <a:ext cx="1828800" cy="9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580080" y="840960"/>
                <a:ext cx="1752480" cy="1523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122880" y="3584520"/>
              <a:ext cx="53352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Criticit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n molti casi la  digitalizzazione è stata avviata individualmente dalle  istituzioni culturali con motivazioni di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fornire specifici servizi al pub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alvaguardare materiali a rischio di deteri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Garamond"/>
              </a:rPr>
              <a:t>Discoteca Bruno Slawitz – digitalizzazione e restauro conservativo e filologico di 1.268 dischi in vinile a 78 giri e 300 Lp a 33 giri; riguardanti repertorio melodramma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ndere disponibili in rete risorse culturali poco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en-GB" sz="2400" spc="-1" strike="noStrike">
                <a:solidFill>
                  <a:srgbClr val="333399"/>
                </a:solidFill>
                <a:latin typeface="Garamond"/>
              </a:rPr>
              <a:t>Istituto Gramsci di Bologna – digitalizzazione di 10.500 immagini di manifesti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…”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etrin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nd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Concezione unitaria del patrimonio cultu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IBC (E-R) e Mi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Garamond"/>
              </a:rPr>
              <a:t>Governance</a:t>
            </a: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Linee d’azione per la programm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Criticità dei progetti di digital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Organizzazione del censimento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Primi risultati in E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Esempi di collezioni digi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riticità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 consapevolezza dei governi di poter avere un ruolo attivo nell’ organizzazione di queste  attività nei loro territori è apparsa come un secondo pa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itiche su digitalizzazione dei patrimoni : esperienze e standard già determinanti a questo liv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grammi : stabilire priorità e forme di coord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getti : risultati attesi e verifica soddisfazione u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Garamond"/>
              </a:rPr>
              <a:t>Organizzazione cens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Fonti di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   indagine esplorativa (poli SBN in E-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4   dati del censimento biblioteche di Ente local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l’E-R [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5   ricognizione collezioni digitali per progetto Micha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6   dati tratti da “Musei dell’E-R” + informazioni  interne su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6   collaborazione con Direzione regionale Beni cultur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…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inuo aggiornamento mediante disseminazione della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oscenza del progetto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600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Contenuti cens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llezioni digitali   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stituzioni  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llezioni fisiche  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rvizi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getti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lle bibliote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I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ha censito 466 biblio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ha rilevato nel censimento delle biblioteche di enti locali le collezioni digitali ( Sibib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censimento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ggetti digitali present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ltre 2.000.000  (al 23-0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ltre 70 film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70 ore di fil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schede di cataloghi (difficilmente quantific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i muse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I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censito in E-R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 470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u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realizzato il Progetto “</a:t>
            </a:r>
            <a:r>
              <a:rPr b="0" i="1" lang="it-IT" sz="2000" spc="-1" strike="noStrike">
                <a:solidFill>
                  <a:srgbClr val="333399"/>
                </a:solidFill>
                <a:latin typeface="Garamond"/>
              </a:rPr>
              <a:t>Catalogo dei beni culturali della regione Emilia-Romagn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reso disponibile la banca dati </a:t>
            </a:r>
            <a:r>
              <a:rPr b="0" i="1" lang="it-IT" sz="2000" spc="-1" strike="noStrike">
                <a:solidFill>
                  <a:srgbClr val="6666ff"/>
                </a:solidFill>
                <a:latin typeface="Garamond"/>
              </a:rPr>
              <a:t>“Musei dell’Emilia-Romagna</a:t>
            </a:r>
            <a:r>
              <a:rPr b="0" lang="it-IT" sz="2000" spc="-1" strike="noStrike">
                <a:solidFill>
                  <a:srgbClr val="6666ff"/>
                </a:solidFill>
                <a:latin typeface="Garamond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ibc.regione.emilia-romagna.it/h3/h3.exe/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amuseier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che raccogl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82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llezion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82 collezioni fis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82 istitu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Garamond"/>
              </a:rPr>
              <a:t>Censimento Michael :</a:t>
            </a:r>
            <a:r>
              <a:rPr b="0" lang="it-IT" sz="2000" spc="-1" strike="noStrike">
                <a:solidFill>
                  <a:srgbClr val="6666ff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previsione stimata è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68.630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zzati e catalogati (norme ICC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Garamond"/>
              </a:rPr>
              <a:t>Museo Internazionale delle Ceramiche di Faenza : 37.791 immagin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i mus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lla banca dati </a:t>
            </a:r>
            <a:r>
              <a:rPr b="0" i="1" lang="en-US" sz="2400" spc="-1" strike="noStrike">
                <a:solidFill>
                  <a:srgbClr val="6666ff"/>
                </a:solidFill>
                <a:latin typeface="Garamond"/>
              </a:rPr>
              <a:t>Musei dell’Emilia-Romagn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” oltre al “</a:t>
            </a: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Catalogo dei beni culturali …”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ovano po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Gallerie fotografi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48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llezioni digitali  ( non coll. fisi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409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mmagini digitali    (non catalo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iti web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73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reati dai singoli istit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mmagini digitali (censimento in co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Elaborazioni e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Numero dei progetti </a:t>
            </a:r>
            <a:r>
              <a:rPr b="1" lang="it-IT" sz="3200" spc="-1" strike="noStrike">
                <a:solidFill>
                  <a:srgbClr val="000000"/>
                </a:solidFill>
                <a:latin typeface="Garamond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è un indicatore di progettualità o programmazione  condivisa o capacità di policy perché si tratta di progetti e servizi condivisi o coordin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La totalità ( o quasi) delle collezioni digitali rappresentano una ( o parte) di una collezione fisica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po di access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 dati on line:  21  (7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utti con protocollo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D Rom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VD 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 dati off line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a servizi access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(solo): 19 (67%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inglese: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latino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francese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, inglese e tedesco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o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o: 13 (4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rca: 11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e: 4  (1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BC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Codice di beni culturali (art. 17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: concorso delle regioni nella definizione di “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metodologie comuni di raccolta, scambio, accesso ed elaborazione dei dati a livello nazionale e di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integrazione in rete delle banche dati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dello Stato, delle regioni e degli altri enti pubblici territoriali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IB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in dalla sua costituzione (1974) e con continuità ha sempre svolto  attività conoscitive e di standardizz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dotto cens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accolto docu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nanziato e/o gestito inventariazioni e catalog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ito metodologie comuni e protocolli di catalogazio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sso a disposizione strumenti di ricerca e recupero delle informazioni per l’elaborazione di politiche regionali in materia di beni culturali e consulenza alla programmazione territoriale degli enti loc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zioni di ac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ti “liberi e gratuit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in </a:t>
            </a:r>
            <a:r>
              <a:rPr b="0" i="1" lang="en-US" sz="3200" spc="-1" strike="noStrike">
                <a:solidFill>
                  <a:srgbClr val="6666ff"/>
                </a:solidFill>
                <a:latin typeface="Arial"/>
              </a:rPr>
              <a:t>La storia sui muri: gli stemmi dell’Archiginnasi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ccesso è subordinato alla “registrazione” per accedere alla ricerca avanz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Archivio Chaplin – Cineteca di Bolog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harlieChaplin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aramond"/>
              </a:rPr>
              <a:t>Chaplin Projec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che dal 1999 è promosso congiuntamente dalla Cineteca del Comune di Bologna e dall’Association Chap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tauro dell’opera cinemat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atalogazione e digitalizz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dell’archivio cartaceo (sceneggiature, copioni, manoscritti, bozzetti, disegni di set, fotografie, contratti, appunt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00.000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magini;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8.800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chede catalogra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talogazione secondo standard ISBD , AACR2 e per le foto: 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La fotografia : manuale di catalogazione,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ura  di G. Benassati (IBC Regione E-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n line accesso alle descrizioni catalografiche e alle prime 5 pagine di ogni documento ; il fondo è interamente consultabile on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51640" y="1484280"/>
            <a:ext cx="1000080" cy="12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1238040" cy="905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796000" y="1628640"/>
            <a:ext cx="1238040" cy="905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Museo civico archeologico di Bologna  Collezione romana</a:t>
            </a: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escrizione: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La collezione di antichità romane del Museo Archeologico trae origine in parte da sca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ffettuati a Bologna e nel suo territorio ed in parte da nuclei collezionistici, in particolare le racc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Universitaria e Palag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Lingu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tal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Forma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ML ; 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ipo di documen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mmagine fissa ; T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mension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66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em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Archeologia, numismatica ed epi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iod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Roma a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ultur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Civiltà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opertura geografic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ata iniziale e fin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-189-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stata creata d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Si trova press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disponibile attravers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tp://www.comune.bologna.it/museoarcheologico/collezio/collez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Rappresenta in tutto o in part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Collezione romana del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2743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Museo civico archeologico di Bolog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llezioni | Romana | Bronzetti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tatuetta di Mercurio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rcurio è il dio romano identificato con l'Ermes greco, l'ast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ssaggero degli dei, figlio di Zeus, incaricato di fare da intermed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ra il mondo degli uomini e quello degli dei. E' la divinità che proteg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 commercianti e i viaggiatori. I suoi attributi sono il caduceo, la ver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mbolica degli araldi, il petaso, il cappello a larga tesa con le ali, i sand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lati e una borsa, simbolo del guadagno ricavato dalle attività mercanti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a statuetta raffigura il dio in posizione di riposo, con le gambe incrociate, appoggiato 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raccio sinistro ad un sostegno, ora scomparso.    Indossa il petaso alato, e porta un c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antello avvolto alla spalla e al braccio sinistro;   con la mano destra stringe la borsa, n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nistra aveva probabilmente il caduceo.E' un bronzetto di buona fattura attribuibile a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officina romana della prima età impe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ATAZIONE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seconda metà del I secolo a.C. - prima metà del I secolo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ATERIALE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bron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IMENSIONI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altezza cm 22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OVENIENZA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ollezione Universitaria. Da Castelvetro (Mod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ventario: Rom 15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732720" y="1197000"/>
            <a:ext cx="100332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I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talogo collettivo di opere grafiche (stampe, disegni, fotografie, manifesti, figurine, etc.) e cartografia di Biblioteche, Archivi e Musei della regione Emilia-Romag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esso in rete dal novembr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 opere catalogate -</a:t>
            </a:r>
            <a:r>
              <a:rPr b="0" lang="en-US" sz="1800" spc="-1" strike="noStrike">
                <a:solidFill>
                  <a:srgbClr val="008080"/>
                </a:solidFill>
                <a:latin typeface="Garamond"/>
              </a:rPr>
              <a:t>incisioni, disegni, figurine, fotografie, cartografia</a:t>
            </a:r>
            <a:r>
              <a:rPr b="0" lang="en-US" sz="1800" spc="-1" strike="noStrike">
                <a:solidFill>
                  <a:srgbClr val="009999"/>
                </a:solidFill>
                <a:latin typeface="Garamond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etc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 autori italiani e stranieri dal XV al XX secolo, sono ad oggi circa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0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 descrizione delle fotografie ha seguito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La fotografia. Manuale di catalog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a cura di G. Benassati, Bologna, 199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r la cartografia si sono utilizzati, con integrazioni nell'area della descrizione fisica,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ISBD(CM): International Standard Bibliographic Description for Cartographic Material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a cura dell'ICCU, Roma, ICCU, 19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0.000 immagini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gitalizzat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hanno visto l’utilizzo del formato Kodak Photo Cd amatoriale. Sono stati creati master TIFF ad alta definizione (3000x2000 pixel) poi compressi (800x600) in formato JPG per la visualizzazione su web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 immagini sono protette da una </a:t>
            </a:r>
            <a:r>
              <a:rPr b="0" lang="en-US" sz="1800" spc="-1" strike="noStrike">
                <a:solidFill>
                  <a:srgbClr val="6666ff"/>
                </a:solidFill>
                <a:latin typeface="Garamond"/>
              </a:rPr>
              <a:t>filigrana digital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realizzata con il software “Batch.It!Ultra”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sul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l catalogo in linea fornis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access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ltipli: attraverso ricerche per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utore –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 e senza codici di ruolo-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, titolo, soggetto, classe, immagini digitali col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videnzia numeros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legam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da quelli strettamente connaturati alla produzione grafica quali: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Stato, Copia, Controparte, Replica, Variante, Reimpiego, Traduzion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 quelli pertinenti i rapporti tra i materiali grafici 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altre tipologie di document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: librari , archivistici, musicali e multimedi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 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nciando la ricerca nel portale 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Imago </a:t>
            </a:r>
            <a:r>
              <a:rPr b="0" lang="en-US" sz="1800" spc="-1" strike="noStrike">
                <a:solidFill>
                  <a:srgbClr val="cc3300"/>
                </a:solidFill>
                <a:latin typeface="Garamond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è possibil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contemporanea interrog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di cataloghi e banche dati contenenti analoghe tipologie di materiali o considerate alla stregua di fonti utili alla ricerca ed al lavoro di catalog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2448000" cy="2951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Raccolta Maria Luigia d’Asburgo - Pa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escrizion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mmagini e schede descrittive relative a testimonianze stori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 artistiche raccolte dal collezionista Glauco Lombardi su Maria Luigia D'Asbu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 Napoleone Bonaparte oltre a numerose opere e documenti relativi al Ducat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Parma nei secoli XVIII e 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Lingu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tal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Forma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ML ; J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ipo di documen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Immagine fissa ; t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ritt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Tutti i diritti riserv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mensioni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1.500 immagini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em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Numismatica ; Artigianato ; Fotografia ; Grafica ; Miniatura ; Scultura ; Pittura ; Storie naz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iod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Età napoleonica : Ottoc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opertura geografic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Piacenza ; Parma ; Austria ; Francia ;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ata iniziale e fin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1708-1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sonaggi famos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aria Luigia D’Asburgo ; Napoleone Bonapar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stata creata da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Glauco Lombardi di Parma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Si trova presso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Glauco Lombardi di Pa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disponibile attraverso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tp://www.fondazionemonteparma.it/sitolombardi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Rappresenta (in tutto o in parte)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Raccolta di documenti storico e artistici su Maria Luigia d’Asburgo  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Napoleone Bonaparte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2038320" cy="194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38036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Eventi di presentazi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ssier “Le collezioni digitali nell’ambito dei programmi regionali” ( italiano-ingle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vegno internazionale Michael : Bologna febbrai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Patrimonio culturale: una concezione unitar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dice dei beni culturali e del paesaggio” (D. Lgs. 22 gennaio 2004, n. 4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rt. 17: concorso delle regioni nella definizione di “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metodologie comuni di raccolta, scambio, accesso ed elaborazione dei dati a livello nazionale e di 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integrazione in rete delle banche dati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 dello Stato, delle regioni e degli altri enti pubblici territoriali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orme in materia di biblioteche archivi storici musei e beni culturali”  (L.R. 24.08.2000 n. 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Convenzioni per lo sviluppo del SBN  (1984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rogramma regionale degli interventi in materia di biblioteche, archivi storici, musei e beni culturali. Obiettivi, linee di indirizzo e procedure per il triennio 2004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"Standard e obiettivi di qualità per biblioteche, archivi storici e musei"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(Direttiva , marzo 20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operazione con Mi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rapporto costante con istituti tecnici nazionali e partecipazione a progetti nazionali e 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Garamond"/>
              </a:rPr>
              <a:t>Sbn ; Bdi (e Ntc) ; Um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Garamond"/>
              </a:rPr>
              <a:t>Minerva; Michael e Michael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capacità di proposte metodologiche, tecnologiche, organizz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llaborazione istituzionale con altre regioni, università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artecipazione a progetti europei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Cerl;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Museums tell many stori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;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ifelong Museum Learning (LLML), ecc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livello regionale una regia istituziona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rammazione negoziata con il territorio secondo una governance distribu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ualità 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zione accurata di standard e protocolli condiv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di servizi innov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ollo delle metodologie e standar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ndirizzo e programmazione regionale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iano triennale 2006-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iani Bibliotecari e Muse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Sviluppo Sebina Open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polo RER di Sb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Sibib (sistema informativo sulle biblioteche) e standard q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biblioteche digitali e “port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“Musei in Emilia-Romagn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progetti specifici (banca dati restauri; arte scultorea; sul microclima dei muse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iano telematico reg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viluppo servizi innov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ingle sig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ortale multicanale E-R ( in prog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Strate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aramond"/>
              </a:rPr>
              <a:t>Progettualità condivi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li S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rtali anche temati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pogli periodic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opac arricchi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llezioni digita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istemi informativi di anagrafe bibliotecaria integrati con i serviz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Garamond"/>
              </a:rPr>
              <a:t>Esiste un nesso tra la forma della rete e il contenuto delle scelte pubb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’infrastruttura di servizi e di comunicazione (Sebina OpenLibr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Linee d’azione per la digitalizz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 correlati alla catalog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Coop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 collegati come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link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la gestione bibliografica Sbn e consultabili dagli Opac collettivi dei rispettivi poli lo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 catalogo collettivo “Imag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la banca dati “Musei in Emilia-Romagn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Interoper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nfrastruttura integrata di accesso a contenuti e servizi generati da archivi biblioteche musei mediante Portale regionale beni culturali e portali tematici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Imago plus, Arti sceniche, Le chiavi di casa Artusi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Open search Seb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1:23:23Z</dcterms:created>
  <dc:creator>RER</dc:creator>
  <dc:description/>
  <dc:language>en-US</dc:language>
  <cp:lastModifiedBy>pgs</cp:lastModifiedBy>
  <dcterms:modified xsi:type="dcterms:W3CDTF">2007-03-29T14:51:52Z</dcterms:modified>
  <cp:revision>89</cp:revision>
  <dc:subject/>
  <dc:title>Regioni ed EL nell’organizzazione delle informazioni e dati per Michael</dc:title>
</cp:coreProperties>
</file>