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172360" y="6424560"/>
            <a:ext cx="792360" cy="31752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77164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9840" y="5867280"/>
            <a:ext cx="2521080" cy="933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52280" y="162000"/>
            <a:ext cx="5689800" cy="2809800"/>
          </a:xfrm>
          <a:prstGeom prst="rect">
            <a:avLst/>
          </a:prstGeom>
          <a:ln w="0">
            <a:noFill/>
          </a:ln>
        </p:spPr>
      </p:pic>
      <p:pic>
        <p:nvPicPr>
          <p:cNvPr id="81" name="firenzeOK" descr=""/>
          <p:cNvPicPr/>
          <p:nvPr/>
        </p:nvPicPr>
        <p:blipFill>
          <a:blip r:embed="rId3"/>
          <a:stretch/>
        </p:blipFill>
        <p:spPr>
          <a:xfrm>
            <a:off x="7391520" y="0"/>
            <a:ext cx="1726920" cy="2362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391520" y="228600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Garamond"/>
                <a:ea typeface="Times New Roman"/>
              </a:rPr>
              <a:t>EVA 2007 Florence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6576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e catalog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of the European digit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819520" y="0"/>
            <a:ext cx="63244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00"/>
                </a:solidFill>
                <a:latin typeface="Garamond"/>
              </a:rPr>
              <a:t>Il ruolo di MiB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600200"/>
            <a:ext cx="9144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  <a:ea typeface="Arial"/>
              </a:rPr>
              <a:t>MiBAC ha rivestito un ruolo centrale non solo nella definizione delle strategie nazionali in Italia, ma anche nell’attuazione delle azioni europee, grazie al compito di coordinamento, svolto a partire dal 2002, della rete Minerva e della sua estensione MinervaPLUS ai nuovi Stati Membri dell’Unione, nel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  <a:ea typeface="Arial"/>
              </a:rPr>
              <a:t>A ciò ha fatto seguito l’avvio, sempre nel 2004, del servizio MICHAEL sulle collezioni culturali digitali, inizialmente limitato a Italia, Francia e Regno Unito, ed esteso nel 2006 ad altri undici stati memb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6600" y="4876920"/>
          <a:ext cx="229572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4876920"/>
                    <a:ext cx="22957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819520" y="0"/>
            <a:ext cx="63244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00"/>
                </a:solidFill>
                <a:latin typeface="Garamond"/>
              </a:rPr>
              <a:t>Google Libr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600200"/>
            <a:ext cx="9144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L’evidenza di quanto MICHAEL fosse innovativo e rispondente alle reali attese del pubblico è divenuta palese alla fine del 2004, quando Google, il noto motore di ricerca americano, ha annunciato l’intenzione di costituire una biblioteca digitale per mettere a disposizione del grande pubblico i contenuti culturali presenti in cinque importanti biblioteche britanniche e statunitens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A ciò ha fatto seguito una iniziativa, promossa dalla Biblioteca Nazionale Francese e sostenuta da Chirac, per creare un servizio europeo autonomo da Goo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È stato così facile dimostrare come i progetti MINERVA e MICHAEL fossero lo strumento della strategia europea in questo campo, avviata già ben prima dell’iniziativa di Google, e soprattutto basata su un’ottica transnazionale e multilinguistica.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429240" y="5810400"/>
          <a:ext cx="271476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240" y="5810400"/>
                    <a:ext cx="2714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819520" y="0"/>
            <a:ext cx="63244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00"/>
                </a:solidFill>
                <a:latin typeface="Garamond"/>
                <a:ea typeface="Arial"/>
              </a:rPr>
              <a:t>i2010: Digital Libraries</a:t>
            </a:r>
            <a:r>
              <a:rPr b="1" lang="it-IT" sz="4000" spc="-1" strike="noStrike">
                <a:solidFill>
                  <a:srgbClr val="ff66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60020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  <a:ea typeface="Arial"/>
              </a:rPr>
              <a:t>Nel settembre 2005, la Commissione Europea pubblica la Comunicazione “i2010: Digital Libraries”, con cui vengono definiti gli obiettivi e le strategie dell’azione comune degli Stati Membri dell’Unione rispetto alla messa a disposizione online del patrimonio culturale europeo, agli obiettivi da perseguire per procedere alla digitalizzazione di tale patrimonio, e alle strategie per garantire la conservazione dei contenuti digital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5229360"/>
          <a:ext cx="175248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229360"/>
                    <a:ext cx="175248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819520" y="0"/>
            <a:ext cx="63244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00"/>
                </a:solidFill>
                <a:latin typeface="Garamond"/>
                <a:ea typeface="Arial"/>
              </a:rPr>
              <a:t>Raccomandazio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60020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  <a:ea typeface="Arial"/>
              </a:rPr>
              <a:t>A tale Comunicato ha fatto seguito una consultazione tra i governi dei paesi europei e gli organismi interessati al raggiungimento di questi obiettivi, che ha permesso di attivare un ricco scambio di idee, sfociato nelle “Raccomandazioni sulla digitalizzazione e l’accessibilità online del patrimonio culturale”, indirizzate dalla Commissione ha agli Stati Membri nell’agosto 200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  <a:ea typeface="Arial"/>
              </a:rPr>
              <a:t>Infine il Consiglio dell’Unione Europea nel novembre 2006 ha fatto proprie ed esteso tale strategia, delineando lo scenario delle azioni necessarie 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  <a:ea typeface="Arial"/>
              </a:rPr>
              <a:t>conseguimento degli obiettivi prefissa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servizi_arch_cdrom" descr=""/>
          <p:cNvPicPr/>
          <p:nvPr/>
        </p:nvPicPr>
        <p:blipFill>
          <a:blip r:embed="rId1"/>
          <a:stretch/>
        </p:blipFill>
        <p:spPr>
          <a:xfrm>
            <a:off x="6480000" y="3851280"/>
            <a:ext cx="266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00"/>
                </a:solidFill>
                <a:latin typeface="Garamond"/>
              </a:rPr>
              <a:t>MICHAEL e</a:t>
            </a:r>
            <a:br>
              <a:rPr sz="4000"/>
            </a:br>
            <a:r>
              <a:rPr b="1" lang="it-IT" sz="4000" spc="-1" strike="noStrike">
                <a:solidFill>
                  <a:srgbClr val="ff6600"/>
                </a:solidFill>
                <a:latin typeface="Garamond"/>
              </a:rPr>
              <a:t>la Biblioteca Digitale Europ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600200"/>
            <a:ext cx="914400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13 novembre 2006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Bruxelles, Consiglio dei Ministri della C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Adozione del testo “</a:t>
            </a: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Digitisation and Online Accessibility of Cultural Material, and Digital Preservation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” in cui si ribadisce che, ai fini della costituzione della Biblioteca Digitale Europea sono riferimenti importan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Il CENL e il servizio “The European Library” per l’accesso ai materiali digitali delle biblioteche nazion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MICHAEL e il portale europeo delle collezioni digitali cultur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819520" y="0"/>
            <a:ext cx="63244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00"/>
                </a:solidFill>
                <a:latin typeface="Garamond"/>
              </a:rPr>
              <a:t>Un contributo innova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60020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MICHAEL fornisce al processo di creazione della Biblioteca Digitale Europea un contributo innovativo grazie al suo modello di descrizione delle collezioni digita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Tale modello può essere applicato alle collezioni digitali culturali di tutti i settori (archivi, biblioteche, musei, audiovisivi) garantendo così un accesso integrato al patrimon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cd-it-matematici_1" descr="La collezione di modelli matematici del Dipartimento di matematica dell'Università di Pavia // © Università degli studi di Pa"/>
          <p:cNvPicPr/>
          <p:nvPr/>
        </p:nvPicPr>
        <p:blipFill>
          <a:blip r:embed="rId1"/>
          <a:stretch/>
        </p:blipFill>
        <p:spPr>
          <a:xfrm>
            <a:off x="0" y="4572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8200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I portali nazionali di Regno Unito, Francia e Italia sono già in linea. Il popolamento con dati nazionali è in continuo accres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I partner di MichaelPLUS hanno installato le singole istanze nazionali; a gennaio partirà il censimento delle collezioni digita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Il portale europeo, allo stato attuale, fornisce accesso a oltre 3000 collezioni digitali di Regno Unito, Francia e Ital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0"/>
            <a:ext cx="63244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00"/>
                </a:solidFill>
                <a:latin typeface="Garamond"/>
              </a:rPr>
              <a:t>Lo stato dell’a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819520" y="0"/>
            <a:ext cx="63244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00"/>
                </a:solidFill>
                <a:latin typeface="Garamond"/>
              </a:rPr>
              <a:t>I serviz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600200"/>
            <a:ext cx="914400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Il servizio MICHAEL consente molteplici strategie di ricerca con modalità multiling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testu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geogra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cronolo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per tipologia, categoria o argo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per istituzione responsabile, progetto o serviz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La ricerca può essere effettuata nell’ambito delle singole basi dati nazionali o su tutte contemporaneamente attraverso il portale europe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Obiettivo prioritario del servizio offerto da MICHAEL è l’interoperabilità con le diverse iniziative internazionali, nazionali e locali nel campo dell’accesso digitale al patrimonio cultur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Amministrazioni nazionali e loc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Operatori del tur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Turi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Portali cultur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Fornitori di contenu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Ricerca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Stud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Utenti gener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0"/>
            <a:ext cx="63244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00"/>
                </a:solidFill>
                <a:latin typeface="Garamond"/>
              </a:rPr>
              <a:t>Gli uten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carte-monde2" descr="World map"/>
          <p:cNvPicPr/>
          <p:nvPr/>
        </p:nvPicPr>
        <p:blipFill>
          <a:blip r:embed="rId1"/>
          <a:stretch/>
        </p:blipFill>
        <p:spPr>
          <a:xfrm>
            <a:off x="2895480" y="3078000"/>
            <a:ext cx="624852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6407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Coordinamento del MiB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Massimo coinvolgimento istituzionale e sul ter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Coordinamento sul territorio (Regioni – Direzioni regionali MiBA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Tutti i settori del patrimonio cultu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ordi bilater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con le Regio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con la CRUI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e la BE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Integrato con il Portale della Cultura Ital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19520" y="0"/>
            <a:ext cx="63244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00"/>
                </a:solidFill>
                <a:latin typeface="Garamond"/>
              </a:rPr>
              <a:t>MICHAEL in Ita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600200"/>
            <a:ext cx="91440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Anna Maria Tammaro, Università di Par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Presentazione del semi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Pier Giacomo Sola, Amiti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Michael nel contesto della Biblioteca Digitale Europ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Giuliana De Francesco, Ministero per i Beni e le Attività Cultu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I portali Micha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Vincenzo Bazzocchi, Istituto dei Beni Artistici, Culturali e Naturali della Regione Emilia-Romag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Regioni ed Enti locali nell'organizzazione delle informazioni e dei dati per Michael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Maria Clara Peira, CSI Piemo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I progetti della Biblioteca digitale piemontese censiti in Micha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Enzo Minervin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omplementarietà tra Michael e il sistema informativo per i beni culturali della Lombardia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600200"/>
            <a:ext cx="9144000" cy="56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Pier Giacomo Sola, Amiti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Michael nel contesto della Biblioteca Digitale Europ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Giuliana De Francesco, Ministero per i Beni e le Attività Cultu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I portali Micha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Vincenzo Bazzocchi, Istituto dei Beni Artistici, Culturali e Naturali della Regione Emilia-Romag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Regioni ed Enti locali nell'organizzazione delle informazioni e dei dati per Michael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Maria Clara Peira, CSI Piemo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I progetti della Biblioteca digitale piemontese censiti in Micha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Enzo Minervin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Complementarietà tra Michael e il sistema informativo per i beni culturali della Lombardia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66920" y="0"/>
            <a:ext cx="59770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00"/>
                </a:solidFill>
                <a:latin typeface="Garamond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64072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Al momento, più di 600 istituzioni culturali tra archivi, biblioteche, musei, enti di ricerca e di tutela coinvolte nel cens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Rappresentati tutti gli uffici centrali e territoriali del MiB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Tutte le Regioni coinvolte; lavorano in coordinamento con le rispettive Direzioni Regionali del MiB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CRUI e BEIC si occupano del censimento delle collezioni digitali di biblioteche, musei, dipartimenti di 77 università itali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Ministero della pubblica istru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19520" y="0"/>
            <a:ext cx="63244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00"/>
                </a:solidFill>
                <a:latin typeface="Garamond"/>
              </a:rPr>
              <a:t>Istituzioni coinvol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496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È in fase di costituzione una struttura internazionale che sarà in gr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di assicurare il servizio MICHAEL una volta terminato il finanziamento europe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0"/>
            <a:ext cx="63244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00"/>
                </a:solidFill>
                <a:latin typeface="Garamond"/>
              </a:rPr>
              <a:t>La sostenibilit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0" y="3016080"/>
          <a:ext cx="9144000" cy="38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16080"/>
                    <a:ext cx="9144000" cy="38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Garamond"/>
              </a:rPr>
              <a:t>Grazie per l’atten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Garamond"/>
              </a:rPr>
              <a:t>http://www.michael-culture.o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9840" y="5867280"/>
            <a:ext cx="2521080" cy="933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52280" y="162000"/>
            <a:ext cx="5689800" cy="2809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36576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Michael nel cont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della Biblioteca Digitale Europ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585144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aramond"/>
              </a:rPr>
              <a:t>Pier Giacomo S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4360" y="1557360"/>
            <a:ext cx="7605720" cy="46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600200"/>
            <a:ext cx="741672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Realizzare un </a:t>
            </a:r>
            <a:r>
              <a:rPr b="0" lang="it-IT" sz="2400" spc="-1" strike="noStrike">
                <a:solidFill>
                  <a:srgbClr val="000000"/>
                </a:solidFill>
                <a:latin typeface="Garamond"/>
              </a:rPr>
              <a:t>portale europeo multilingue p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censire le collezioni digitali culturali europee </a:t>
            </a:r>
            <a:r>
              <a:rPr b="0" lang="it-IT" sz="2400" spc="-1" strike="noStrike">
                <a:solidFill>
                  <a:srgbClr val="000000"/>
                </a:solidFill>
                <a:latin typeface="Garamond"/>
              </a:rPr>
              <a:t>di musei, archivi, biblioteche e altre istituzioni cultur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Garamond"/>
              </a:rPr>
              <a:t>fornire un accesso integrato alle collezioni culturali digit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Garamond"/>
              </a:rPr>
              <a:t>promuovere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il patrimonio culturale europeo presso un pubblico mond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66560" y="0"/>
            <a:ext cx="5977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00"/>
                </a:solidFill>
                <a:latin typeface="Garamond"/>
              </a:rPr>
              <a:t>Obiettiv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315200" y="4295880"/>
          <a:ext cx="1752480" cy="25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4295880"/>
                    <a:ext cx="175248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4360" y="1557360"/>
            <a:ext cx="7605720" cy="46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66560" y="0"/>
            <a:ext cx="5977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00"/>
                </a:solidFill>
                <a:latin typeface="Garamond"/>
              </a:rPr>
              <a:t>Il conte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600200"/>
            <a:ext cx="85201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0" indent="-71280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Finanziato dal Programma e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0" indent="-71280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MICHAEL + MichaelPLUS: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48 mesi (giugno 2004 - maggio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0" indent="-71280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Total cost of the project: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84 M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0" indent="-71280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Contributo eTEN (10%):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8.4 M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320" y="5410080"/>
            <a:ext cx="380988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92040" y="1600200"/>
            <a:ext cx="357048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337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Menon (Belgiu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337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MKCR (Czech Republ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337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Devoteam (Czech Republ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337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UH.HUL (Fin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337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Finnarchives (Fin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337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Museovirasto, NBA (Fin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337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Dédale (Fr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337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MCC (Fr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337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SPK (German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337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Bundesarchiv (German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337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BSB (German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337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DDB (German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337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DMM (German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337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LABW (German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337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SNG (German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337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ICCS-NTUA (Gree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337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HMC (Gree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59320" y="1600200"/>
            <a:ext cx="46083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MiBAC (Ita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37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IBACN (Ita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37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Amitié (Ita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37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Neumann (Hung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37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NKOM (Hung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37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IHM (Hung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37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Heritage Malta (Mal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37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KB (The Netherla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37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MINOCW (The Netherla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37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MSWA (Po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37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ICIMSS (Po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37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Secretaria-Geral do Ministério da Cultura, Portugal</a:t>
            </a: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37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Biblioteca Nacional de España</a:t>
            </a: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 , 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37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University of Uppsala - Department of Information Science, Sweden</a:t>
            </a: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37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MLA (U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3166560" y="0"/>
            <a:ext cx="5977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00"/>
                </a:solidFill>
                <a:latin typeface="Garamond"/>
              </a:rPr>
              <a:t>I part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6320" y="1599840"/>
            <a:ext cx="8229600" cy="41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tanno per aderire al progetto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Belgio (Ministeri delle </a:t>
            </a:r>
            <a:r>
              <a:rPr b="0" lang="fr-BE" sz="2000" spc="-1" strike="noStrike">
                <a:solidFill>
                  <a:srgbClr val="000000"/>
                </a:solidFill>
                <a:latin typeface="Garamond"/>
              </a:rPr>
              <a:t>Comunità Vallone e Fiamming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Estonia (Ministero della cultu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sraele, The Jewish Agency for Isra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anno mostrato interess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omania (Ministero della cultu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rbia (Ministero della cultu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anada, CH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tretto collegamento avviato con i proget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EL, DELOS, BRI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72360" y="6424560"/>
            <a:ext cx="792360" cy="3175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166560" y="0"/>
            <a:ext cx="5977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00"/>
                </a:solidFill>
                <a:latin typeface="Garamond"/>
              </a:rPr>
              <a:t>Allargamento della re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962840" y="5781600"/>
          <a:ext cx="1181160" cy="107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62840" y="5781600"/>
                    <a:ext cx="118116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819520" y="0"/>
            <a:ext cx="63244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00"/>
                </a:solidFill>
                <a:latin typeface="Garamond"/>
              </a:rPr>
              <a:t>Le origini di MICHA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600200"/>
            <a:ext cx="9144000" cy="34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Il progetto MICHAEL rappresenta un risultato concreto delle iniziative intraprese dal Gruppo dei Rappresentanti Nazionali per la digitalizzazione (NRG) con il sostegno del progetto MINER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In particolare dai prodot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Linee guida tecniche per la digitalizz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Data model per la descrizione di inventari culturali digit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rototipo di portale culturale Franco-Ital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e sul lavoro sviluppato dal gruppo “Inventari, creazione di contenuti digitali e multilinguism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819520" y="0"/>
            <a:ext cx="63244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00"/>
                </a:solidFill>
                <a:latin typeface="Garamond"/>
              </a:rPr>
              <a:t>I passi per la Biblioteca Digitale Europ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600200"/>
            <a:ext cx="9144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  <a:ea typeface="Arial"/>
              </a:rPr>
              <a:t>A partire dall’anno 2001, il piano di azione eEurope ha riconosciuto l’importanza che i beni culturali e scientifici rivestono nello sviluppo socio-economico dell’Europ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Le basi per la cooperazione europea sono state gettate a Lund nel 2001. In questa città svedese, la Commissione Europea e gli Stati Membri si riunirono per definire il Lund Action Plan, un piano di lavoro avente l’obiettivo di guidare la realizzazione di questo ambizioso program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In particolare venne in quell’ambito creato il Gruppo di Rappresentanti Nazionali (National Representatives Group – NRG), con cui ogni paese conferiva a un proprio funzionario il mandato di definire e concordare le strategie comuni per la digitalizzazione del patrimonio culturale.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16:38:18Z</dcterms:created>
  <dc:creator>KateF</dc:creator>
  <dc:description/>
  <dc:language>en-US</dc:language>
  <cp:lastModifiedBy>pgs</cp:lastModifiedBy>
  <dcterms:modified xsi:type="dcterms:W3CDTF">2007-03-29T07:02:17Z</dcterms:modified>
  <cp:revision>512</cp:revision>
  <dc:subject/>
  <dc:title>Slide 1</dc:title>
</cp:coreProperties>
</file>