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292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4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250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292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4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292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4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50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292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4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iapositiva2" descr="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5760">
              <a:spcBef>
                <a:spcPts val="601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800" indent="-1764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5560" indent="-27252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24560" indent="-18576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24560" indent="-185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24560" indent="-185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ogocsinegativo" descr=""/>
          <p:cNvPicPr/>
          <p:nvPr/>
        </p:nvPicPr>
        <p:blipFill>
          <a:blip r:embed="rId3"/>
          <a:stretch/>
        </p:blipFill>
        <p:spPr>
          <a:xfrm>
            <a:off x="7086600" y="6400800"/>
            <a:ext cx="190512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22760" y="645696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9/03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64756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aria Clara P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03360" y="730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ichael: the Catalogue of the European Digital 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0" y="905040"/>
            <a:ext cx="9144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74840" y="6037200"/>
            <a:ext cx="811440" cy="262080"/>
            <a:chOff x="8574840" y="6037200"/>
            <a:chExt cx="811440" cy="262080"/>
          </a:xfrm>
        </p:grpSpPr>
        <p:sp>
          <p:nvSpPr>
            <p:cNvPr id="9" name=""/>
            <p:cNvSpPr/>
            <p:nvPr/>
          </p:nvSpPr>
          <p:spPr>
            <a:xfrm>
              <a:off x="8574840" y="6076800"/>
              <a:ext cx="81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C75533-6507-4710-B6E2-01E4A53DD648}" type="slidenum"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48800" y="6037200"/>
              <a:ext cx="261720" cy="2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positiva2" descr="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9" name="logocsinegativo" descr=""/>
          <p:cNvPicPr/>
          <p:nvPr/>
        </p:nvPicPr>
        <p:blipFill>
          <a:blip r:embed="rId3"/>
          <a:stretch/>
        </p:blipFill>
        <p:spPr>
          <a:xfrm>
            <a:off x="7086600" y="6400800"/>
            <a:ext cx="1905120" cy="39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44720"/>
            <a:ext cx="9144000" cy="363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87920"/>
            <a:ext cx="9144000" cy="363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33440" indent="324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752480" indent="5868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752480" indent="58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752480" indent="58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rinlinea.it/" TargetMode="External"/><Relationship Id="rId2" Type="http://schemas.openxmlformats.org/officeDocument/2006/relationships/hyperlink" Target="http://www.regione.piemonte.it/guaw/MenuAction.do?" TargetMode="External"/><Relationship Id="rId3" Type="http://schemas.openxmlformats.org/officeDocument/2006/relationships/hyperlink" Target="http://www.regione.piemonte.it/guaw/MenuAction.do?" TargetMode="External"/><Relationship Id="rId4" Type="http://schemas.openxmlformats.org/officeDocument/2006/relationships/hyperlink" Target="http://www.regione.piemonte.it/gu2w/MenuAction.do" TargetMode="External"/><Relationship Id="rId5" Type="http://schemas.openxmlformats.org/officeDocument/2006/relationships/hyperlink" Target="http://www.regione.piemonte.it/gu2w/MenuAction.do" TargetMode="External"/><Relationship Id="rId6" Type="http://schemas.openxmlformats.org/officeDocument/2006/relationships/hyperlink" Target="http://www.regione.piemonte.it/gu2w/MenuAction.do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egione.piemonte.it/cultura/bdp/progetti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ael-culture.eu/documents/MICHAELDataModel_ITA.pdf" TargetMode="External"/><Relationship Id="rId2" Type="http://schemas.openxmlformats.org/officeDocument/2006/relationships/hyperlink" Target="http://www.michael-culture.eu/documents/MICHAELDataModel_ITA.pdf" TargetMode="External"/><Relationship Id="rId3" Type="http://schemas.openxmlformats.org/officeDocument/2006/relationships/hyperlink" Target="http://www.michael-culture.eu/documents/MICHAELDataModel_ITA.pdf" TargetMode="External"/><Relationship Id="rId4" Type="http://schemas.openxmlformats.org/officeDocument/2006/relationships/hyperlink" Target="http://www.michael-culture.eu/documents/MICHAELDataModel_ITA.pdf" TargetMode="External"/><Relationship Id="rId5" Type="http://schemas.openxmlformats.org/officeDocument/2006/relationships/hyperlink" Target="http://www.michael-culture.eu/documents/MICHAELDataModel_ITA.pdf" TargetMode="External"/><Relationship Id="rId6" Type="http://schemas.openxmlformats.org/officeDocument/2006/relationships/hyperlink" Target="http://www.michael-culture.eu/documents/MICHAELDataModel_ITA.pdf" TargetMode="External"/><Relationship Id="rId7" Type="http://schemas.openxmlformats.org/officeDocument/2006/relationships/hyperlink" Target="http://www.michael-culture.eu/documents/MICHAELDataModel_ITA.pdf" TargetMode="External"/><Relationship Id="rId8" Type="http://schemas.openxmlformats.org/officeDocument/2006/relationships/hyperlink" Target="http://www.michael-culture.eu/documents/MICHAELDataModel_ITA.pdf" TargetMode="External"/><Relationship Id="rId9" Type="http://schemas.openxmlformats.org/officeDocument/2006/relationships/hyperlink" Target="http://www.michael-culture.eu/documents/MICHAELDataModel_ITA.pdf" TargetMode="External"/><Relationship Id="rId10" Type="http://schemas.openxmlformats.org/officeDocument/2006/relationships/hyperlink" Target="http://www.michael-culture.eu/documents/MICHAELDataModel_ITA.pdf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" y="2763360"/>
            <a:ext cx="8915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Arial Unicode MS"/>
              </a:rPr>
              <a:t>I progetti della Biblioteca Digitale Piemontese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Arial Unicode MS"/>
              </a:rPr>
              <a:t>censiti in Michael</a:t>
            </a:r>
            <a:br>
              <a:rPr sz="3200"/>
            </a:b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9240" y="820440"/>
            <a:ext cx="735948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chael: the Catalogue of the European Digita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  <a:ea typeface="Arial Unicode MS"/>
              </a:rPr>
              <a:t>Firenze, 29 Marz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5478840"/>
            <a:ext cx="697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ia Clara P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  <a:ea typeface="Arial Unicode MS"/>
              </a:rPr>
              <a:t>Direzione Banche Dati, Cultura, Aten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2440" y="1396800"/>
            <a:ext cx="852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stata creat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Proget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i digitali “La Stamp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ima Se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ndo Front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gitalizzazione collezione cinema m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2440" y="1396800"/>
            <a:ext cx="852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disponibile attra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erviz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brinl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rini Archivi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rini Patrimonio Cultural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c"/>
                </a:solidFill>
                <a:latin typeface="Arial"/>
              </a:rPr>
              <a:t>Biblioteca Digitale Piemonte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50440"/>
            <a:ext cx="713412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Biblioteca Digitale Piemontese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BDP)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sce come “teca” locale dell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Biblioteca Digitale Italiana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BDI),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cui utilizza strumenti e standard, con l’obiettivo di tradurne i paradigmi di riferimento nel contesto region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decent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modello federativo tra una pluralità di soggetti in modalità di compartecipazione non gerarch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ntersettori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onvergenza di biblioteche, archivi, musei considerati come articolazioni di un unico dominio disciplin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nteroperabi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 livello tecnico, semantico, organizz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c"/>
                </a:solidFill>
                <a:latin typeface="Arial"/>
              </a:rPr>
              <a:t>Biblioteca Digitale Piemonte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563480"/>
            <a:ext cx="71341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Biblioteca Digitale Piemontes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BDP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gata alle basi dati catalografiche e ai relativi motori Web e intende fornire agli utenti un servizio informativo completo, che li conduc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dal dato al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Opac Librinline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Guarini</a:t>
            </a: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 Archivi We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Guarini</a:t>
            </a: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 Patrimonio Culturale Web </a:t>
            </a: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c"/>
                </a:solidFill>
                <a:latin typeface="Arial"/>
              </a:rPr>
              <a:t>Biblioteca Digitale Piemonte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3480" y="1585800"/>
            <a:ext cx="79358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rogetti d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iblioteca Digitale Piemonte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tengono all’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ambito bibliograf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archivistico, storico-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65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65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765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www.regione.piemonte.it/cultura/bdp/progetti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Michael Data Mod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208160"/>
            <a:ext cx="8413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odello dei dati di Michael ha consentito una descrizione puntuale dei contenuti e delle responsabilità della Biblioteca Digitale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765ff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michael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-culture.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eu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/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documents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7"/>
              </a:rPr>
              <a:t>/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8"/>
              </a:rPr>
              <a:t>MICHAELDataModel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9"/>
              </a:rPr>
              <a:t>_ITA.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10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Ent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e digi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e 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tit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/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izio/Prodo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Relazioni tra le ent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Michael Data Mod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563480"/>
            <a:ext cx="71341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94120" y="992160"/>
            <a:ext cx="3440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tities and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3880" y="1224000"/>
            <a:ext cx="8351640" cy="5008320"/>
            <a:chOff x="353880" y="1224000"/>
            <a:chExt cx="8351640" cy="5008320"/>
          </a:xfrm>
        </p:grpSpPr>
        <p:grpSp>
          <p:nvGrpSpPr>
            <p:cNvPr id="104" name=""/>
            <p:cNvGrpSpPr/>
            <p:nvPr/>
          </p:nvGrpSpPr>
          <p:grpSpPr>
            <a:xfrm>
              <a:off x="2873160" y="1454040"/>
              <a:ext cx="3643200" cy="576360"/>
              <a:chOff x="2873160" y="1454040"/>
              <a:chExt cx="3643200" cy="576360"/>
            </a:xfrm>
          </p:grpSpPr>
          <p:sp>
            <p:nvSpPr>
              <p:cNvPr id="105" name=""/>
              <p:cNvSpPr/>
              <p:nvPr/>
            </p:nvSpPr>
            <p:spPr>
              <a:xfrm>
                <a:off x="2873160" y="1454040"/>
                <a:ext cx="3643200" cy="5763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responsible for – is under the responsibility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the location of  - is located 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81320" y="2016000"/>
                <a:ext cx="3004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2240" y="2303280"/>
              <a:ext cx="2776680" cy="1008000"/>
              <a:chOff x="4962240" y="2303280"/>
              <a:chExt cx="2776680" cy="1008000"/>
            </a:xfrm>
          </p:grpSpPr>
          <p:sp>
            <p:nvSpPr>
              <p:cNvPr id="108" name=""/>
              <p:cNvSpPr/>
              <p:nvPr/>
            </p:nvSpPr>
            <p:spPr>
              <a:xfrm>
                <a:off x="5681520" y="2592360"/>
                <a:ext cx="2057400" cy="57132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is representation /  </a:t>
                </a:r>
                <a:br>
                  <a:rPr sz="1000"/>
                </a:b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is source of (part of all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4962240" y="2303280"/>
                <a:ext cx="1871640" cy="1008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322600" y="3960720"/>
              <a:ext cx="3167280" cy="1728720"/>
              <a:chOff x="5322600" y="3960720"/>
              <a:chExt cx="3167280" cy="1728720"/>
            </a:xfrm>
          </p:grpSpPr>
          <p:sp>
            <p:nvSpPr>
              <p:cNvPr id="111" name=""/>
              <p:cNvSpPr/>
              <p:nvPr/>
            </p:nvSpPr>
            <p:spPr>
              <a:xfrm>
                <a:off x="5897520" y="4464000"/>
                <a:ext cx="2592360" cy="4334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cc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makes available (part of) one or more - is made available v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22600" y="3960720"/>
                <a:ext cx="1511280" cy="17287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89160" y="5800680"/>
              <a:ext cx="3168720" cy="431640"/>
              <a:chOff x="3089160" y="5800680"/>
              <a:chExt cx="3168720" cy="431640"/>
            </a:xfrm>
          </p:grpSpPr>
          <p:sp>
            <p:nvSpPr>
              <p:cNvPr id="114" name=""/>
              <p:cNvSpPr/>
              <p:nvPr/>
            </p:nvSpPr>
            <p:spPr>
              <a:xfrm>
                <a:off x="3954240" y="5800680"/>
                <a:ext cx="1800360" cy="4316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reates – is created in the context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89160" y="5832360"/>
                <a:ext cx="316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96800" y="2293560"/>
              <a:ext cx="2952720" cy="3241800"/>
              <a:chOff x="496800" y="2293560"/>
              <a:chExt cx="2952720" cy="3241800"/>
            </a:xfrm>
          </p:grpSpPr>
          <p:cxnSp>
            <p:nvCxnSpPr>
              <p:cNvPr id="117" name=""/>
              <p:cNvCxnSpPr>
                <a:stCxn id="118" idx="0"/>
              </p:cNvCxnSpPr>
              <p:nvPr/>
            </p:nvCxnSpPr>
            <p:spPr>
              <a:xfrm flipV="1">
                <a:off x="2406240" y="2293560"/>
                <a:ext cx="35640" cy="3242160"/>
              </a:xfrm>
              <a:prstGeom prst="straightConnector1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496800" y="3168720"/>
                <a:ext cx="2952720" cy="3585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responsible for – is under the responsibility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ontributes to – is contribu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930240" y="2303280"/>
                <a:ext cx="1511280" cy="2449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946240" y="2303280"/>
              <a:ext cx="2425680" cy="1008000"/>
              <a:chOff x="2946240" y="2303280"/>
              <a:chExt cx="2425680" cy="100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3233520" y="2303280"/>
                <a:ext cx="2138400" cy="4320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is responsible for – is under the responsibility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46240" y="2303280"/>
                <a:ext cx="1584360" cy="1008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14240" y="1224000"/>
              <a:ext cx="7991280" cy="2908440"/>
              <a:chOff x="714240" y="1224000"/>
              <a:chExt cx="7991280" cy="2908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714240" y="1224000"/>
                <a:ext cx="1317600" cy="1081080"/>
                <a:chOff x="714240" y="1224000"/>
                <a:chExt cx="1317600" cy="108108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714240" y="1224000"/>
                  <a:ext cx="1317600" cy="935640"/>
                  <a:chOff x="714240" y="1224000"/>
                  <a:chExt cx="1317600" cy="9356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14240" y="1224000"/>
                    <a:ext cx="1317600" cy="64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200" spc="-1" strike="noStrike">
                        <a:solidFill>
                          <a:srgbClr val="808080"/>
                        </a:solidFill>
                        <a:latin typeface="Arial"/>
                      </a:rPr>
                      <a:t>Institu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28" name=""/>
                  <p:cNvCxnSpPr/>
                  <p:nvPr/>
                </p:nvCxnSpPr>
                <p:spPr>
                  <a:xfrm flipH="1" flipV="1">
                    <a:off x="1217520" y="1872360"/>
                    <a:ext cx="576360" cy="287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</p:grpSp>
            <p:sp>
              <p:nvSpPr>
                <p:cNvPr id="129" name=""/>
                <p:cNvSpPr/>
                <p:nvPr/>
              </p:nvSpPr>
              <p:spPr>
                <a:xfrm>
                  <a:off x="785520" y="2016000"/>
                  <a:ext cx="863640" cy="289080"/>
                </a:xfrm>
                <a:prstGeom prst="rect">
                  <a:avLst/>
                </a:prstGeom>
                <a:solidFill>
                  <a:srgbClr val="ffffff">
                    <a:alpha val="1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808080"/>
                      </a:solidFill>
                      <a:latin typeface="Arial"/>
                    </a:rPr>
                    <a:t>is part o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302240" y="1295280"/>
                <a:ext cx="1403280" cy="1008000"/>
                <a:chOff x="7302240" y="1295280"/>
                <a:chExt cx="1403280" cy="1008000"/>
              </a:xfrm>
            </p:grpSpPr>
            <p:cxnSp>
              <p:nvCxnSpPr>
                <p:cNvPr id="131" name=""/>
                <p:cNvCxnSpPr/>
                <p:nvPr/>
              </p:nvCxnSpPr>
              <p:spPr>
                <a:xfrm flipV="1">
                  <a:off x="7554240" y="2015640"/>
                  <a:ext cx="415080" cy="254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grpSp>
              <p:nvGrpSpPr>
                <p:cNvPr id="132" name=""/>
                <p:cNvGrpSpPr/>
                <p:nvPr/>
              </p:nvGrpSpPr>
              <p:grpSpPr>
                <a:xfrm>
                  <a:off x="7302240" y="1295280"/>
                  <a:ext cx="1403280" cy="1008000"/>
                  <a:chOff x="7302240" y="1295280"/>
                  <a:chExt cx="1403280" cy="10080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7302240" y="1295280"/>
                    <a:ext cx="1403280" cy="720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200" spc="-1" strike="noStrike">
                        <a:solidFill>
                          <a:srgbClr val="808080"/>
                        </a:solidFill>
                        <a:latin typeface="Arial"/>
                      </a:rPr>
                      <a:t>Physical collec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611840" y="2087640"/>
                    <a:ext cx="792360" cy="215640"/>
                  </a:xfrm>
                  <a:prstGeom prst="rect">
                    <a:avLst/>
                  </a:prstGeom>
                  <a:solidFill>
                    <a:srgbClr val="ffffff">
                      <a:alpha val="1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808080"/>
                        </a:solidFill>
                        <a:latin typeface="Arial"/>
                      </a:rPr>
                      <a:t>is part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5465520" y="3384360"/>
                <a:ext cx="2016000" cy="748080"/>
                <a:chOff x="5465520" y="3384360"/>
                <a:chExt cx="2016000" cy="74808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5547600" y="3384360"/>
                  <a:ext cx="1933920" cy="748080"/>
                  <a:chOff x="5547600" y="3384360"/>
                  <a:chExt cx="1933920" cy="74808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330600" y="3384360"/>
                    <a:ext cx="1150920" cy="748080"/>
                    <a:chOff x="6330600" y="3384360"/>
                    <a:chExt cx="1150920" cy="7480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330600" y="3384360"/>
                      <a:ext cx="1150920" cy="647640"/>
                    </a:xfrm>
                    <a:prstGeom prst="flowChartPreparation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473520" y="3490920"/>
                      <a:ext cx="84924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ig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l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140" name=""/>
                  <p:cNvCxnSpPr>
                    <a:stCxn id="138" idx="1"/>
                    <a:endCxn id="141" idx="3"/>
                  </p:cNvCxnSpPr>
                  <p:nvPr/>
                </p:nvCxnSpPr>
                <p:spPr>
                  <a:xfrm flipH="1">
                    <a:off x="5547600" y="3708000"/>
                    <a:ext cx="78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</p:grpSp>
            <p:sp>
              <p:nvSpPr>
                <p:cNvPr id="142" name=""/>
                <p:cNvSpPr/>
                <p:nvPr/>
              </p:nvSpPr>
              <p:spPr>
                <a:xfrm>
                  <a:off x="5465520" y="3744720"/>
                  <a:ext cx="1030320" cy="343080"/>
                </a:xfrm>
                <a:prstGeom prst="rect">
                  <a:avLst/>
                </a:prstGeom>
                <a:solidFill>
                  <a:srgbClr val="ffffff">
                    <a:alpha val="1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808080"/>
                      </a:solidFill>
                      <a:latin typeface="Arial"/>
                    </a:rPr>
                    <a:t>is part o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2657160" y="2303280"/>
              <a:ext cx="3889440" cy="3313080"/>
              <a:chOff x="2657160" y="2303280"/>
              <a:chExt cx="3889440" cy="3313080"/>
            </a:xfrm>
          </p:grpSpPr>
          <p:sp>
            <p:nvSpPr>
              <p:cNvPr id="144" name=""/>
              <p:cNvSpPr/>
              <p:nvPr/>
            </p:nvSpPr>
            <p:spPr>
              <a:xfrm>
                <a:off x="2657160" y="2303280"/>
                <a:ext cx="3889440" cy="3313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44880" y="4771800"/>
                <a:ext cx="2093760" cy="6159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993300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responsible for – is under the responsibility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657160" y="3887640"/>
              <a:ext cx="1835280" cy="1657440"/>
              <a:chOff x="2657160" y="3887640"/>
              <a:chExt cx="1835280" cy="1657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908080" y="4319640"/>
                <a:ext cx="1584360" cy="36180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ff00ff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657160" y="3887640"/>
                <a:ext cx="1368720" cy="1657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881160" y="3311280"/>
              <a:ext cx="1657440" cy="792360"/>
            </a:xfrm>
            <a:prstGeom prst="flowChartPreparation">
              <a:avLst/>
            </a:prstGeom>
            <a:solidFill>
              <a:srgbClr val="ff717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gital Col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53880" y="4752720"/>
              <a:ext cx="1371600" cy="1067040"/>
              <a:chOff x="353880" y="4752720"/>
              <a:chExt cx="1371600" cy="106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637920" y="5459400"/>
                <a:ext cx="865440" cy="360360"/>
              </a:xfrm>
              <a:prstGeom prst="rect">
                <a:avLst/>
              </a:prstGeom>
              <a:solidFill>
                <a:srgbClr val="ffffff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808080"/>
                    </a:solidFill>
                    <a:latin typeface="Arial"/>
                  </a:rPr>
                  <a:t>is part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808080"/>
                    </a:solidFill>
                    <a:latin typeface="Arial"/>
                  </a:rPr>
                  <a:t>/ fun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53880" y="4752720"/>
                <a:ext cx="1371600" cy="974880"/>
                <a:chOff x="353880" y="4752720"/>
                <a:chExt cx="1371600" cy="974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3880" y="4752720"/>
                  <a:ext cx="1371600" cy="547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Project /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Program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30240" y="5294160"/>
                  <a:ext cx="79200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1722240" y="1727280"/>
              <a:ext cx="5975280" cy="4456080"/>
              <a:chOff x="1722240" y="1727280"/>
              <a:chExt cx="5975280" cy="44560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22240" y="5545080"/>
                <a:ext cx="1368360" cy="57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ject 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gram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57880" y="5616360"/>
                <a:ext cx="143964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Service 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du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93520" y="1727280"/>
                <a:ext cx="1403640" cy="57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nstit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86240" y="1727280"/>
                <a:ext cx="1366920" cy="57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hysical Col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4560" y="1395000"/>
            <a:ext cx="85694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Collezione digit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iblioteca Digitale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stata creata d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stitu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Piem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rezione Beni Cultu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8040" y="1384200"/>
            <a:ext cx="8316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appresen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Collezione fis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zzetta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mpa S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ndo Front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125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e di cinema muto tor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1360" y="1607760"/>
            <a:ext cx="8569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stata creata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stitu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itato per la Biblioteca Digit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’Informazione Giornal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e di Novi Ligure.Archivio Stor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useo Nazionale del Cinema 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ndazione Maria Adriana Pr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0:41:25Z</dcterms:created>
  <dc:creator>ebottero</dc:creator>
  <dc:description/>
  <dc:language>en-US</dc:language>
  <cp:lastModifiedBy>CSI Piemonte</cp:lastModifiedBy>
  <dcterms:modified xsi:type="dcterms:W3CDTF">2007-03-28T06:16:09Z</dcterms:modified>
  <cp:revision>99</cp:revision>
  <dc:subject/>
  <dc:title>Titolo intervento</dc:title>
</cp:coreProperties>
</file>